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E50A-48E5-4DB7-9DEC-4F2A234C4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5FD-8E83-44C7-88EF-B5E59E61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E3F-57AD-4EE9-A181-006688E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332-9E18-43E2-AB05-4E66A23C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A93-5A22-480E-8C91-71C0B63D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D725-EB5F-4A24-8B38-A5771907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9884-12D7-48FB-8774-4E4EB54D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36F6-1880-4FEA-84A0-33B90FDB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1A20-CE44-4D22-8278-4F0ACECD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43C0-9399-486A-A210-34749CA2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F324-6A56-4D60-9602-31180497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5AEA-86A9-456B-871E-C84037E8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C52-FFA8-48C0-8423-20EC83BE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1A39-76CC-4A4B-B8F5-FB553D11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101B-B375-4921-8F19-7E920DBD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9031-C479-4C20-B880-357CC1F4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F657-D690-4FAB-BAAB-2637C269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8090-4554-4019-806B-20BF1ECE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D51-1BEC-4886-8348-5FB8F30A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AA5-E082-4EC7-B02E-A9E3CE65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C2C-F125-45EC-97D3-A9740FE9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B26-208C-48DC-8042-E9B92FE2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5C1-CB7A-4944-8B3E-4F0BF454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228-3990-410E-962B-8209BBC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B2E-1AE8-49FE-AE19-20EDBD60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4D0B-3850-4216-BABF-3569FA4AD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53F4-28A4-4060-82D2-EF739BCEE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3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LEGION</cp:lastModifiedBy>
  <dcterms:modified xsi:type="dcterms:W3CDTF">2018-03-22T09:50:12Z</dcterms:modified>
  <cp:revision>10</cp:revision>
  <dc:subject>Our Solar System</dc:subject>
  <dc:title>Our Solar System</dc:title>
</cp:coreProperties>
</file>